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71D-7F4F-42BC-8EDD-BDA7DF11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18F-B3C9-453D-9E40-5AF67FB5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32F-6003-4130-803B-4FC64DE3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492-54E0-4E5E-B287-3A7199BE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8CC2-436B-4613-9D46-6F7CF2F5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66A0-6D5D-483F-9635-9C647754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897E-EBBA-482D-9321-B3E5BE2C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0F19-F210-4957-9585-4498112D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133C-F467-432A-9149-2796B066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9193-08FC-4EEF-A831-8E3D3130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32A3-1051-4012-B5AB-09E69A4B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F7A-6CE1-4D98-8B58-ED582BDA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1CE0-D746-4AE3-A018-9AFC547A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F8A-EEDC-48E1-8E3B-D603C73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DDC9-C822-49B0-86D7-B0C47895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2A52-CC2B-43A2-95A0-8318331F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BB12-36D6-4895-8F43-9A7B3147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863-6F41-46AA-95C7-3648115F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4FD-B732-4052-A035-C2FCD819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C0E-35C4-4885-B854-61076747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34D-E00C-4337-A9DB-63D77691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A29-9549-47F7-8D68-F5B0A38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9D2-7024-4983-AE18-A55C0D5A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3C6-BA3C-4F64-AD56-5306EB2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4EEB-C588-472A-A063-9315A96C01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B8F6-47F6-42BA-AFB1-4B87A0EDBE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dividual oral commentary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個人口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討論部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老師會提問讓學生再引導問題的基礎上再發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老師需要滿意學生對於材料的理解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簡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%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的分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要被錄音，需要上交給考官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最高分數：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讓學生研究語言的意義與寫作手法等的關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學生需要表現對於書本的理解和知識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選擇材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老師需要負責從已讀過的两本書裡選擇材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學生不會預先知道內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材料不會超過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行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要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口試：第一部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鐘，第二部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鐘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預備時間：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鐘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根據從第四部份的兩本書進行口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材料的分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材料的數量取決於班裡的人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我們班每個人的材料會完全不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準備時間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老師會給學生一份沒有注解的備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每個學生需要再老師的監督下被分配到一個教室里準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可以記簡單的筆記當做口試的參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學生只拿到一份材料和一份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引導問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老師會在準備時間前給學生一份包括兩道的問題紙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內容的概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寫作方法（手法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幫助學生開始口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對於主旨的關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只針對於概要（不會針對細節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讓學生自己發掘文中重要的問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鼓勵學生理解文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例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文中結構怎麼反映主旨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作者用了什麼樣的寫作方式表達感情，態度，和意思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我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的想法怎麼影響了讀者對於文本的理解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這個作品針對了哪些讀者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這段文字表現了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與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的關係是什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這段的主旨什麽，是怎麼發展的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作者試著表達什麼樣的環境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評論部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流暢，適當的語言，不要離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老師不會打擾學生評論，除非學生需要幫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學生應該專注在材料上的內容，如果需要提到書中其他部份，一定要跟引導問題有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在評論中學生應該回答引導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6:27:12Z</dcterms:created>
  <dc:creator>FtpDown</dc:creator>
  <dc:description/>
  <dc:language>en-US</dc:language>
  <cp:lastModifiedBy>Client Admin</cp:lastModifiedBy>
  <dcterms:modified xsi:type="dcterms:W3CDTF">2012-02-06T06:51:16Z</dcterms:modified>
  <cp:revision>4</cp:revision>
  <dc:subject/>
  <dc:title>Individual oral commentary</dc:title>
</cp:coreProperties>
</file>